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168-6637-430F-9423-022B5514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C3F-8E3D-40AE-BF6F-B52BD3E5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9B5-6F61-46C2-9110-236047E9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FD5-5ED4-4703-9536-4FC1B786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E5EC-C83C-4704-ACE6-A0595179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C957-A566-40A6-A74D-EEABC6C8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D095-93E1-45F8-8F5A-18812FF5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196C-E291-4F59-A78A-697BA010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6FB8-B7E8-419D-A72A-7B9AC433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9716-2A9F-489E-8EDC-2B8A7282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2F1C-97AB-4623-81E0-F4DF2C31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F4D-F377-483E-A070-2F4DCC81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3921-07F6-4F4C-AE62-ACCC4957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7521-3CDB-4EC3-8783-7F46BAE6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D7E4-4128-4A41-A709-32FE5377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05D5-5C39-4788-AB7C-B8950B1E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98C9-5199-4757-A8FF-2FC2192D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B57-10F8-4202-984D-7C0D602F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04E-AF31-4A8E-B8D2-43FD2500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7A83-C258-4786-AEFC-346B262A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550-AD3C-4434-BDB3-17121313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D93-5877-44EB-9E1D-E380ABC0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6F6-B20C-459E-A1A7-722AED4D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F13-3091-4FED-9B23-42834474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6E06-8E62-4FF3-8D42-71B96236D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2A73-8262-4ED1-ACD5-A17F78082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Come Forward</a:t>
            </a:r>
            <a:br>
              <a:rPr sz="44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Grades 1-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spelling the vocabulary words with students holding the let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Come Forwar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etter tiles from mentoring mi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 has one or two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 displays a vocabulaty w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ith a letter in the word “come forwar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arrange themselves in order from left to right with out tal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 and the class spell the word out loud to check the order for the students who are sta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Var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e the word while students arrange themselves. Display the card to check their order when they are 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efinition instead of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57:35Z</dcterms:created>
  <dc:creator>Ann Weeks</dc:creator>
  <dc:description/>
  <dc:language>en-US</dc:language>
  <cp:lastModifiedBy>Ann Weeks</cp:lastModifiedBy>
  <dcterms:modified xsi:type="dcterms:W3CDTF">2008-06-29T14:29:29Z</dcterms:modified>
  <cp:revision>3</cp:revision>
  <dc:subject/>
  <dc:title>Light Up the World A vocabulary game from Mentoring Minds Grades 1-4</dc:title>
</cp:coreProperties>
</file>